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14.pct" ContentType="image/x-pict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B9BB-E105-47B0-AF90-5EDFC09C5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 key bacteria  Eu bacteria  Pro tist a  Fun 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tee  Ani ma 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6ED-4A2A-487B-A1EF-44932A47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D9E-4EBB-43BF-9677-10125266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A38-F1B1-4358-B444-7943948F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636-ED6F-4D5C-9378-AB688684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268-A42A-401B-8D7C-0CE16C26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6B3-71A8-48DB-86DC-BA2AF5B7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321-A2FC-4F2F-BAE1-43EB0346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1D3-C753-45F4-AA8B-51A1D572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ED2-1658-4926-950D-24C49BE7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1EC-D93C-496D-87C3-E75E202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435-F3F6-4802-8381-423D1D21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19D-70BF-466B-8B13-3717ECB0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4133-CA1A-4C80-9B7C-6C751CAE2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ingd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designed by Anita L. Archer, PHD for presentation in Middle School demonstration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20B-6BC5-4ECD-BB2F-585DC6C27A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tro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 =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ph = nutrition/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s on other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tro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=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ph = nutrition/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own f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38F-0B05-495B-AA45-C2B3EB9515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 = an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3320" y="1981080"/>
            <a:ext cx="533736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83600" y="61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944-A17D-4451-8887-4743D15F5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C49-8939-42BD-A5E4-8E89F60646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eter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 autotro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D29-FCC3-4780-9FC5-91291F5B4C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4920" y="1981080"/>
            <a:ext cx="6192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C00-921D-4B6C-BCD5-042E155B8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= 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ED1-041A-445A-93C0-F7BD5930A3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5560" y="1981080"/>
            <a:ext cx="3692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B24-FE49-414A-B9E0-019E2C8CC2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2371680"/>
            <a:ext cx="7772400" cy="33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C65-38DF-4613-9E64-D626F9832F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ell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 &amp; autotrop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elpful/some harm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242-8E95-4957-8AE2-45232C7806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a (proti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A37-F02A-4F8E-9899-958ECE2BD0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gs means to divid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groups or types so tha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imilar characteristics are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366-DCBE-42B5-8A65-FB3CE74BD0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0D4-65E3-4C4A-A4D8-B9CDA94F6E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green Alga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82880" y="1981080"/>
            <a:ext cx="51782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C50-3794-4AC8-90E3-A6810B63B9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awe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01720" y="1981080"/>
            <a:ext cx="5740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A6A-C01F-443E-93D4-FF20090E28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t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unicell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 &amp; aut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s and ends”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acteria, animal, plant, or fung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D8B-AD74-48E0-912C-4B9D4F121D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3120" y="1981080"/>
            <a:ext cx="3316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E26-53D1-400B-9DD5-3517E55457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41560" y="1981080"/>
            <a:ext cx="5059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89A-D356-49F5-AAEF-A792BAEACB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90760" y="1981080"/>
            <a:ext cx="61610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B31-650A-43F9-9EDB-E3901D3959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od - decaying plant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h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3E2-87D8-45C3-AC25-FE5AA3A6A4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e (pla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96960" y="1981080"/>
            <a:ext cx="41500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AC1-A9E3-4708-A79B-11FB8F829E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e (pla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607-F521-49DE-8B99-31A612C93E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0EA-7921-4790-A664-1CE88E72B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tro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,000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0D4-0BBA-474F-9C37-2D6C91FD32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  (anim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6F4-2D11-42A7-B039-31204EFA34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  (anim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9960" y="1981080"/>
            <a:ext cx="54640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7FE-AD75-4CB7-ABB4-AD802220FF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  (anim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43160" y="1981080"/>
            <a:ext cx="28576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4A7-75BF-438C-B3A5-627C3F24D5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  (anim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1440" y="1981080"/>
            <a:ext cx="62611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667-D82F-4C66-B7A8-FDF318BD0D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illion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9BC-9373-4664-8BA2-5AF04453FCB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19F-2614-43F5-A702-67C74FA075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7920" y="19810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4B8-52A7-420E-8B0E-12E89B8EE6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9CF-7A30-4F0B-BEC0-688BB0E95C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 for the Biolog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howjsa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8B5-1740-4B6E-8374-3877364668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King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sta (prot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e (pla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ia (anim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A6F-F70E-4E99-BDC2-DAD1750E73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 =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=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E5D-91AE-49AA-8B45-A334A03D76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 tru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=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tru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009-E6BC-4DBE-A793-499F9AB3C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0:26:26Z</dcterms:created>
  <dc:creator>Archer Anita</dc:creator>
  <dc:description/>
  <dc:language>en-US</dc:language>
  <cp:lastModifiedBy>Archer Anita</cp:lastModifiedBy>
  <dcterms:modified xsi:type="dcterms:W3CDTF">2012-02-16T03:48:36Z</dcterms:modified>
  <cp:revision>4</cp:revision>
  <dc:subject/>
  <dc:title>6 kingdoms</dc:title>
</cp:coreProperties>
</file>